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00E-9CAE-4252-B80D-EAD30937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8FF-A376-4311-A829-31230633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39FC-4430-4C78-9B98-1903E041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293-70A8-4C98-A6C1-D83AF204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93D5-D20E-4C8E-A3D0-2C34C4BE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E71D-AB0B-4FB4-BE3D-5041BE29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1585-EA9C-4D11-B337-4D6371BB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94EE-2D66-49E1-965D-28B62168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119C-F9C2-4981-82B1-A8EB7FAA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2DF8-03BC-4F04-9E5D-5AF3A3BB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044B-FDD8-46B4-B6E9-12557733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7C7-06C7-44FA-AA50-ABFBBEBC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F5BC-3AFF-420E-83E6-7156C9F1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D8BA-EDD4-4F15-913E-C26CD018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B4D8-CC0C-4950-92BC-2D718BF7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9D15-069F-4A1F-BC3F-9C3E45DB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7835-3444-42D1-A646-151B573E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3EC-8765-474D-BE7F-5C1DCA6E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D908-BB71-4303-A5E3-9D2FABD4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96D7-AFC2-4BB5-B306-4F24A1A9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54B-F8AD-4725-8C5D-2BE78E8E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FD4-B70A-4B84-A29A-ECE860BE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96F-5578-4EBC-95A7-D7991132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57E-612B-4AB0-8C4B-A7934AF1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E43F-FEBC-4493-B7A3-0620076FA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D5C-FDEA-48D3-AD9A-E56883179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Llinell rif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4000" y="1844640"/>
            <a:ext cx="3240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wch chi roi’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hifau o 1 i 11 y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y cylchoedd fe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o cyfanswm po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linell yn haf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317040" y="1197000"/>
            <a:ext cx="5433840" cy="5268960"/>
            <a:chOff x="3317040" y="1197000"/>
            <a:chExt cx="5433840" cy="5268960"/>
          </a:xfrm>
        </p:grpSpPr>
        <p:grpSp>
          <p:nvGrpSpPr>
            <p:cNvPr id="101" name=""/>
            <p:cNvGrpSpPr/>
            <p:nvPr/>
          </p:nvGrpSpPr>
          <p:grpSpPr>
            <a:xfrm>
              <a:off x="5497200" y="1197000"/>
              <a:ext cx="1074240" cy="5268960"/>
              <a:chOff x="5497200" y="1197000"/>
              <a:chExt cx="1074240" cy="5268960"/>
            </a:xfrm>
          </p:grpSpPr>
          <p:sp>
            <p:nvSpPr>
              <p:cNvPr id="102" name=""/>
              <p:cNvSpPr/>
              <p:nvPr/>
            </p:nvSpPr>
            <p:spPr>
              <a:xfrm>
                <a:off x="6034320" y="1722960"/>
                <a:ext cx="0" cy="408420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97200" y="5411520"/>
                <a:ext cx="1072800" cy="10544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97200" y="1197000"/>
                <a:ext cx="1074240" cy="1053000"/>
              </a:xfrm>
              <a:prstGeom prst="ellipse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97200" y="3304440"/>
                <a:ext cx="1072800" cy="1053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051080" y="1384920"/>
              <a:ext cx="3965040" cy="4892400"/>
              <a:chOff x="4051080" y="1384920"/>
              <a:chExt cx="3965040" cy="4892400"/>
            </a:xfrm>
          </p:grpSpPr>
          <p:sp>
            <p:nvSpPr>
              <p:cNvPr id="107" name=""/>
              <p:cNvSpPr/>
              <p:nvPr/>
            </p:nvSpPr>
            <p:spPr>
              <a:xfrm flipH="1">
                <a:off x="4872240" y="2125800"/>
                <a:ext cx="2400840" cy="330408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2160000">
                <a:off x="4258800" y="5008320"/>
                <a:ext cx="1071360" cy="1054440"/>
              </a:xfrm>
              <a:prstGeom prst="ellipse">
                <a:avLst/>
              </a:prstGeom>
              <a:solidFill>
                <a:srgbClr val="00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2160000">
                <a:off x="6735960" y="1599480"/>
                <a:ext cx="1072800" cy="1053000"/>
              </a:xfrm>
              <a:prstGeom prst="ellipse">
                <a:avLst/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160000">
                <a:off x="5497200" y="3304080"/>
                <a:ext cx="1071360" cy="1053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17040" y="2500200"/>
              <a:ext cx="5433840" cy="2659320"/>
              <a:chOff x="3317040" y="2500200"/>
              <a:chExt cx="5433840" cy="265932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4118040" y="3166200"/>
                <a:ext cx="3960360" cy="128664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4320000">
                <a:off x="3465000" y="3956040"/>
                <a:ext cx="1050840" cy="1074960"/>
              </a:xfrm>
              <a:prstGeom prst="ellipse">
                <a:avLst/>
              </a:prstGeom>
              <a:solidFill>
                <a:srgbClr val="9933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320000">
                <a:off x="7551360" y="2629440"/>
                <a:ext cx="1052280" cy="1073880"/>
              </a:xfrm>
              <a:prstGeom prst="ellipse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4320000">
                <a:off x="5508720" y="3292560"/>
                <a:ext cx="1050840" cy="1073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317040" y="2500200"/>
              <a:ext cx="5433840" cy="2660760"/>
              <a:chOff x="3317040" y="2500200"/>
              <a:chExt cx="5433840" cy="2660760"/>
            </a:xfrm>
          </p:grpSpPr>
          <p:sp>
            <p:nvSpPr>
              <p:cNvPr id="117" name=""/>
              <p:cNvSpPr/>
              <p:nvPr/>
            </p:nvSpPr>
            <p:spPr>
              <a:xfrm flipH="1" flipV="1">
                <a:off x="4118040" y="3207960"/>
                <a:ext cx="3960360" cy="128664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6480000">
                <a:off x="3465000" y="2628360"/>
                <a:ext cx="1050840" cy="1074960"/>
              </a:xfrm>
              <a:prstGeom prst="ellipse">
                <a:avLst/>
              </a:prstGeom>
              <a:solidFill>
                <a:srgbClr val="99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6480000">
                <a:off x="7551360" y="3957480"/>
                <a:ext cx="1052280" cy="1073880"/>
              </a:xfrm>
              <a:prstGeom prst="ellipse">
                <a:avLst/>
              </a:prstGeom>
              <a:solidFill>
                <a:srgbClr val="ff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6480000">
                <a:off x="5508360" y="3292920"/>
                <a:ext cx="1050840" cy="1073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4052520" y="1384560"/>
              <a:ext cx="3963600" cy="4893840"/>
              <a:chOff x="4052520" y="1384560"/>
              <a:chExt cx="3963600" cy="4893840"/>
            </a:xfrm>
          </p:grpSpPr>
          <p:sp>
            <p:nvSpPr>
              <p:cNvPr id="122" name=""/>
              <p:cNvSpPr/>
              <p:nvPr/>
            </p:nvSpPr>
            <p:spPr>
              <a:xfrm flipH="1" flipV="1">
                <a:off x="4872240" y="2233080"/>
                <a:ext cx="2400840" cy="3304080"/>
              </a:xfrm>
              <a:prstGeom prst="line">
                <a:avLst/>
              </a:prstGeom>
              <a:ln w="60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8640000">
                <a:off x="4259880" y="1598760"/>
                <a:ext cx="1071360" cy="1054440"/>
              </a:xfrm>
              <a:prstGeom prst="ellipse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8640000">
                <a:off x="6735960" y="5010480"/>
                <a:ext cx="1072800" cy="1053000"/>
              </a:xfrm>
              <a:prstGeom prst="ellipse">
                <a:avLst/>
              </a:prstGeom>
              <a:solidFill>
                <a:srgbClr val="ff99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8640000">
                <a:off x="5498640" y="3304800"/>
                <a:ext cx="1071360" cy="10533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43:03Z</dcterms:created>
  <dc:creator>Carwyn</dc:creator>
  <dc:description/>
  <dc:language>en-US</dc:language>
  <cp:lastModifiedBy>Carwyn</cp:lastModifiedBy>
  <dcterms:modified xsi:type="dcterms:W3CDTF">2008-12-07T19:45:30Z</dcterms:modified>
  <cp:revision>1</cp:revision>
  <dc:subject/>
  <dc:title>Llinell rif</dc:title>
</cp:coreProperties>
</file>